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CCCAA-6B2C-4569-8753-DC5D1EF9EF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7A49F-80AB-4A4C-8387-4AC58A24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FC40C1-A057-4E0D-AC5A-D10344B4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4448E7-8DC0-4453-BD77-CC2B05F6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B56995-F431-4086-B891-4B48CDE7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375453-BF8F-4F33-9FE1-9111C9EA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92D10-26B6-4A97-A657-E484D913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A9310F-CF1A-49CA-AB27-25F77C9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8F8EF4-F03B-49BD-A5E7-7CAF5AEA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A25018-1945-4B43-A6FA-6BE44BA3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CDAA77-6499-4854-997E-55B9F4EC2D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5B297-CC13-44FC-9A88-53805A4481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43018-0F07-44ED-8688-9DE7B6B4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356B1-5578-4917-A849-21160264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D204A-BFCA-4530-85C2-C61AF4A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14BF1-5962-483E-88C5-09E531C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7B5DB-AF6B-4924-8B7C-34740A15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71ACB-BDC7-4750-9769-0817EFE3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DEDD2-5540-49BC-BB00-3CB39236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50E2F-E315-4AE7-8F5B-82AEEAD7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9D6E3-C3DC-44E5-97F7-2EF9D97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86483-5D0D-4D9D-BF54-C58434F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09C0A-A412-4C25-BC96-E4A5580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E033E-9AE3-4E40-97CE-160253DD28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22D4D-B9FC-448E-A196-901A058D1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E91AB0-D609-448B-BC26-073AB46366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DCBB01-B16B-426A-BF16-6474426C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783B65-0479-4482-A1BD-2FD32252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7AE86-E9FB-484C-80BF-DC0D3916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9DFA8F-1D23-4CCD-BC8C-0F60048B1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366CF5-409A-4D4B-90E1-546F537D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A8687-6E96-4E3E-B9FE-6E07CBF4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204285-7EC8-4AF4-BF10-E7F35623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62A3B-35C3-4AAE-96F5-4CF75CD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9E2BA-A5E6-47A2-8D53-1FD4FC13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367D49-3B74-4CD8-AAF9-D92DA05B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8DE483-EA3F-47D6-BDEF-64531E04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21B43-1580-4ECB-80E0-7DC28B0E9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7A9DF-5D21-453E-BA7C-EE5935D9C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A00110-2995-4C81-995C-198BAB8A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CAF816-6443-42CB-96D0-7995B899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1239C-F4FF-4257-8F53-81E7C475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E2745-B7DA-4275-A965-45556218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4D8384-C8D4-48C6-8F18-AF39F862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9F85E-F02A-4329-9549-FC5DEF7F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ECD19-642D-416B-A96D-14FF2453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0DDD86-26CA-4113-ACAE-85F01938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FC9AF-588E-47B7-B737-5FA3EF66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D0305-5F82-4059-8562-FD444199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7F2409-A400-417D-B833-B1C1EAF3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92F8C1-528C-49C7-9FBE-D42BDA0751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A8286-CE98-49BF-92A8-908D7FD5C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D65EF-BB5A-4410-88ED-C89B186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FC42B-7323-42A1-86CE-DE9E65C5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5D503-83A3-4233-8711-0E4CD4C6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6FCCC-69AA-4DD8-A519-3F95CD61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6ED59-1608-417A-940B-9456926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83CEE-181E-43BD-97C2-A43944DC7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124AD-D6C4-4671-A023-836D938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D6CCA-DCF4-4EBB-81BC-F721BE52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B8189-CD51-4FCF-AEBB-C3A6E00F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86D03-AAC5-4ABF-90E6-16A6CFA1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3D980-5324-4A3A-8470-45385843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9EA82-07E2-4AA9-B760-85519C16A5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2DEB-F6C8-41E3-A726-53BF106E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6DCE3-6164-4025-8D7C-8AC687A8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08374-E902-4007-9E39-D2635376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EE667-BD1F-4030-8D32-75904FFE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55B66-2B99-4692-82FC-F3E2E04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95181-1A08-4D27-941B-4225AB8A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9E2EA-0ACB-47B9-9566-989356E5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34567-0D50-4E57-A365-7A32712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9F690-3B42-4E4B-B2F8-C42508B3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2D1DB-9759-43BD-97E4-77378FE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DBA2A-46C8-4A0B-917A-5E972753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6B7A1-8EE8-4386-8084-024D4E23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B498F-25D2-4AC5-B78B-3EF9448D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D4352-9252-4100-94DC-1C9FD7543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3F187-1F5E-4150-8EDE-748CA473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7894A-C16B-43BC-9702-239EACBB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A419C-E285-4E59-99B2-8276215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74409-9A7F-4087-B45E-C2103AF7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23F7E-1A38-4D7E-A7B9-7A868F63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3B6C6-1F7A-48FC-B633-30059883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535DE-397E-4C48-BE46-88FDCBB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E90BB-502A-4183-9577-61BFBC4F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568C-A928-43AA-A262-3A6E8E8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4D95D-79F6-49FB-83A2-01D27172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C007C-2D54-4FF1-9F8D-EECAFB0E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70BC7-B2B2-459B-B379-DF83CB59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952093-3A89-4D52-944E-D5CC568F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AAA58-DEE4-481B-9EFE-D99156A0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C7D6F-2E28-44E5-A960-23ED343B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0EB1A-F7F1-4DF3-BD53-24C82AC0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E9197-1500-43E1-8E61-83428EA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BD8CD-BE33-4CBD-9440-A718168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90DBB-6F7A-46FF-AA88-7FF4913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1C0C1-52B7-4FF7-AF2F-1CB3747D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7CBFC-C56C-42F2-ABFE-426BB1A6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CC77CB-BB40-419E-8CDF-BAD8B1FB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075E8-FEE3-4FA0-9C8A-85B08645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7249F-821F-48F8-9C81-5A48D169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19000-1441-408F-AEB2-584083F1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A9CEA-42BC-4DC4-A7A8-C66C434C4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A34C81-D456-48A5-9E2B-C186E9D6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EFDA8-A5F7-486A-B2A1-CED0CE15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5DE27-EBFB-4E8B-9873-274DDCEC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5E755-CBD1-4BF0-A887-A9B2C387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8C375F-7FB4-445E-A384-9E2E71DD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24848-9663-4292-BC70-BCB7E78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D0436-978A-4C2B-9A50-62BC7D20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DAB4-A1D9-47EB-BA23-5444CF6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82874-24BF-44CD-96C3-67D1789D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B0BF3F-E8F0-4448-A913-83B7269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D4D69-690F-4F22-89FB-31DF5DB7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18814-BFBD-4D32-9429-3A5748C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C2C9A-E63F-4804-BD8D-330FE76D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CB09E-DF00-48D3-A0FA-2FA9D342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DA49AF-6ACE-4733-80A7-9CFDBCD3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E031D-BCEF-423F-84BB-7515D631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DBC61-8F6A-476C-A5D9-31133B48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375AF-52F5-4A91-8F41-AA11B2FA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210E9-8258-4ADD-B4E8-29C2BDEF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790B9-330C-4D1F-AB7B-081F822A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EB840D-C84D-4757-B660-BD2C9CB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056609-31A3-40D4-903C-E8C575ED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2678B-AD58-44DB-838E-F18D3012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C1F876-0ACE-47BA-975F-F877C414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75252-6B5D-4A2F-A7B5-3541BCFE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703691-2AE4-4A82-A137-2605F1A3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A2292-50C7-491C-A5B8-1DC4948F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3399D4-0D96-473D-9228-C4106E66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0DED0-41E8-4AAC-B2FD-DDC97C9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845322-866B-45D3-A6BA-9C0AB12C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0317-FDEE-413A-920F-FA41DE8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8100C-A32D-4B97-8AE1-0DD95648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40BC3-4F21-4154-B575-086410B5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CA05C-ABBB-416F-9EF5-4C6F6F94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DAEC1-74A9-4B8C-8132-475ACCC8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E85BDD-4B40-4CCA-9CFD-A744363C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EADBE8-2030-4A83-8449-141B7EF6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A0AC3-A738-47DA-8D0D-3DFE86CC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D53063-4E6B-45F0-B52E-0B1D15A2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29CB61-51DB-4782-B256-952216C2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0F409-9B19-4430-A489-A3A49C7C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CCB19-8538-46C6-A610-9955D645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2B450C-E494-4146-B557-743FC359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EB5AE-6F4C-4DBE-A720-95B29532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8A73E8-62C9-4950-84F9-2C147A7A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3DA59-421A-4335-90D6-82B8F64A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9C330A-D738-4220-90B5-6D43B092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5A771-6EA9-4BEB-A806-60D4EEF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07F0FB-93D1-4773-A8D5-1CA7C9A9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2A1F5-1455-4F39-9AB2-D4A44C0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2BAC1-A391-45E0-83B5-51E8694F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2A146-F718-429E-B0DD-C847652B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53E72-279C-41E9-8B84-CB797F68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B66EF-DD96-4EA4-8A21-928179F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A932A9-7C9E-49A2-8EFC-D3976F8F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C2B72C-D18D-47C1-971C-76FF998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E2B582-F6B7-4E08-9A57-F1957339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E9FCA-FC9D-4A87-A8C5-74DEF28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F536AE-83E2-4CF7-A69D-94AC9F03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D23EA-4AF2-4E87-8CDD-D426803B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42BB95-9BB9-4928-A075-477CE448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0DF54C-0574-4C13-9BCD-1A09135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3CFCC-DD09-4B9A-B332-93F063E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BE8EA3-37D5-4615-BF9B-6E196848E9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3927C9-63DE-47EA-B35F-EDA1BF82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11292-39FD-442B-877E-5BDEC98E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F9796E-2101-4EC8-981A-C7C2ACE7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1E7C6C-1378-4921-AEF6-03E67561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B65ABB-2767-4E25-AA3E-0188F51B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BFBC75-3045-484D-A4CC-C81C6C6C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503A5-2224-414C-BEB1-32B19973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D93872-091F-43A0-B3BB-3018D325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A1E43-5E09-43E6-BA88-C23704A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879B10-EE0D-478A-8BB0-2A9DE20E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B24E74-1525-4BE1-9FCE-E881E281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617D7-A2D4-4367-A2A5-E94695D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01C2CF-7626-46DA-AB5F-E0846860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756897-2CBC-4719-B917-B4301981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D02FF-3144-4924-B318-F2C4EDFC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69F48-7B8B-483D-A5BD-01F16123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B69425-230D-43ED-A748-BF11ECFF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0B27E-4E46-467A-B5E7-DA54EF7F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F282EF-CA32-4659-A9E5-73C1AD28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FFE4EB-61DA-4F1B-AC83-42700A59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FC7E96-0C3F-4716-BFB5-9BDE7351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701EB2-3D0B-4FA1-B76F-21F874AA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5BB656-9381-4CF0-A41B-378C015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92967-DF75-4ED3-B067-71FA92DD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9B83C-B313-46FF-8B9A-2AE8157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2821D1-1057-4483-B4A4-5A12CF1C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008674-98DB-452E-82C7-F994FF8B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6645F5-29F9-4695-8F2F-F16EC75D9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8A8571-248A-4891-A8E0-33FB9A1A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1E05BA-C647-4C5A-977E-1E2BAB38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6BA1F3-63D6-4A28-B47C-731A5C72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EF5952-FF3A-4585-8B4E-77808F14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D70A9D-B41A-49E2-9160-F49500A7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2AD66-5365-4AA6-B8E8-BC36B12F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4A29CC-11C0-4AF1-96FB-50F9EE84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72AE2C-953E-44EE-A414-5275ED7D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35BB9-0161-4DF8-BF3B-93624F35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D36062-3F34-4338-A4D7-E6301012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02DEA-C40F-40FA-98CD-8333ACCC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6F93B1-A651-4434-9885-A7312B2F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DEC93B-8977-4C41-AB6D-460C5EB3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83E55-4531-4EB2-86B5-76298A55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C95F2-86D6-44B0-8F89-1090CA48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6E66-0492-4CB9-8659-3BA6FD37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3F4ED-33C7-48AC-AD4D-9394981D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3FF537-854F-4537-A448-5EE4B6B8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6C2DF1-7DD9-4AA3-83A3-AED2CE5B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D989D8-9E02-4369-965C-021B6C64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16A317-EB0F-4FD4-AA96-E988330F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F6E36-A613-488E-8EC5-E1EDF6BC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E8EA7-1965-4F6F-88BB-5C4BCA8314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C4BE-A5AB-4C9E-849F-55E25AB932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55EB-9CF6-4A6E-8F2A-417C290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A738F-8932-4EEF-9817-4407D943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B80F-A1EC-408C-84D7-B5ABA221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3298-EB93-421E-9C33-F343CE60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D370-1DC2-4DAB-A65A-D9617DC0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DFE1C-0B3A-45E6-9D78-34EA77E4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779C-5061-4D47-B14C-B0D9D6C2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DB073-C09C-4D73-8130-F8B7A4FC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26A70-BEA4-41CD-A4AC-1889D943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290EE-69B1-44A4-9C11-4500FA9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39D26-0645-4532-907D-E8866CDF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4091-06C1-402A-9FAB-4AA0707062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374FB-9D57-4B87-A1E8-DD09F1C7BA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BCB74-50E8-49F8-A600-5A242DB3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FE8DC-7760-49F3-ABDA-DA27655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6D58C3-1FF1-43A7-8ECD-66225277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2A24FD-0C12-44CB-AD68-52074EB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EECA2-B552-4D95-A4CD-810E39CE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F0291C-AE78-441F-B071-6C7D8753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3775E-93E7-487E-B60D-FE91E80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5F68F-536D-4616-AFE6-8DD91794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B2FB9-212A-42D5-A684-DFA7D11E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7B4C7-B891-4EF8-9B32-8399B2CD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7F8DCD-7CE9-491A-A861-9056B754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4D6C-5C55-419C-A78B-B7713DA5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34E15-19C5-4F91-A347-A1C528EDC3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71DE6E-8E04-463D-96D2-37A91571E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E7D607-E0CA-468E-B5F7-03723AE3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08B82D-260A-40F8-84AC-1F8E93D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AC2ABC-9D9C-442A-8912-95E212F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8B95FC-461B-4A2A-8EDA-7B319F42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4FE64-7B98-4279-A871-16418279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4B0BA4-68BD-44CE-A9AD-1D4B817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A51E36-BA6E-404D-B35B-0DF20C9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6D686E-CE4A-4BCB-8117-6B94AB7E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76E3-D61A-496A-97A6-D063A971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E5201C-AFC2-4575-846C-4CC2A1B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D73E0-2EE0-485B-BF4D-DCA71B5F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09929-D3B3-4C7A-AB19-D0768294A7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41D59-3DC1-4EAF-AE42-A531B86934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29F0F-EE49-442C-A661-D9BEBCBE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3C39-B0D7-421B-9767-CE04179D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22831-34BE-4179-8195-01AD22C9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7FFF3-6DD5-45C0-A7DF-F1918788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2A644-5BF6-4F77-8DB8-F5773914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0437-6DB7-4700-9A3E-343C84A1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BA58-D1C6-499E-B08B-6128E4F3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3E61B-A19F-41C5-AEA1-4E09C0B1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BF0B-CA88-4647-9E51-41CD841E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7881-F12F-47BA-8110-D92EDA8F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9B61-6918-441C-A50A-160A2FEE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9748D-FA7F-419F-B9B7-34509B3AA1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84488-DBB8-49B2-9242-FBF462CA5B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1AF81A-8420-443A-9537-03F211AD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143C5-BB57-4268-9491-FA79058D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58A25-93D2-4E78-BE22-7AAC6E07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C5B202-81E1-4AA9-B2C6-73C5DF67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1823-93A2-43E0-8F54-8270CB57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34030-F19F-4078-B415-5DB58C01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3419C-FAE6-4E34-95A6-1EC1F039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04FE7-27C2-4FAE-9112-19C47E83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461E39-D7F6-469F-9BB0-FB8BEAF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A38B6A-8C3B-426A-B7CC-AA28F537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6CB34-C097-40D8-ACB2-59C97F1D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67E92-A8AD-43F4-B485-87253C430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B70A70-1CDC-4E96-A38F-48FA5455F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434705-9BB4-4B05-878A-8029E7CE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81FB38-D7FF-4679-B847-A7FE97F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121A-C002-4D8E-9BF8-2BFFAB169F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D177-2731-4BF5-81BE-39A7047727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FC8-6C4F-4179-A987-A81B8B8A0D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C194-C0A9-4B1F-8568-61757B14F5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1033-08C2-4671-996B-5C1095CA48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574D-EE19-4106-8191-4444E3EC764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6C6D-83C9-4FA5-ADDE-B0487005F1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ED28-2966-4F9F-9CA5-DD9A02BE6E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17E6-ED30-4C1B-A7BB-3F861FCE5B3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DE8-C2CE-4B92-9927-193D4FAE22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8B6B-7D86-40B2-AA82-9DA53BC987A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50CD-789D-4460-A797-601C27869C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0989-EAE3-46C8-89BD-8A96591A01C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91EC-3129-4DF1-BAC9-BD7F2F98547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5FB9-A8F0-4D31-93F7-5AC2EA03406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30FB-2D1D-43ED-A1F5-A951B6F5FF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F81-AD38-46D8-97D1-9D3D059BCF8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A7DD-7934-4E4B-8E11-7686C9444B0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3420-1504-4C69-B608-01E19401E61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A3F9-E5B5-49C1-815F-86D7F599F7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1B11-D11D-4716-BFAE-26195CCF7F8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ACB3-A194-4830-BA0C-0BB4438CCE7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56FE-3C94-4195-9ADF-8F8A4B5402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498E-707B-4360-BA05-29BE061EBC3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32040" y="2784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 内 的 加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790880" cy="360"/>
            <a:chOff x="2284560" y="2448000"/>
            <a:chExt cx="4790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790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79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5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4097"/>
          <p:cNvGrpSpPr/>
          <p:nvPr/>
        </p:nvGrpSpPr>
        <p:grpSpPr>
          <a:xfrm>
            <a:off x="612720" y="1557360"/>
            <a:ext cx="7632720" cy="3610080"/>
            <a:chOff x="612720" y="1557360"/>
            <a:chExt cx="7632720" cy="3610080"/>
          </a:xfrm>
        </p:grpSpPr>
        <p:pic>
          <p:nvPicPr>
            <p:cNvPr id="1010" name="图片 4098" descr="小鸡群"/>
            <p:cNvPicPr/>
            <p:nvPr/>
          </p:nvPicPr>
          <p:blipFill>
            <a:blip r:embed="rId8"/>
            <a:stretch/>
          </p:blipFill>
          <p:spPr>
            <a:xfrm>
              <a:off x="612720" y="1557360"/>
              <a:ext cx="4416120" cy="36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图片 4099" descr="68b1OOOPIC57[1]"/>
            <p:cNvPicPr/>
            <p:nvPr/>
          </p:nvPicPr>
          <p:blipFill>
            <a:blip r:embed="rId9"/>
            <a:stretch/>
          </p:blipFill>
          <p:spPr>
            <a:xfrm>
              <a:off x="6684840" y="1778040"/>
              <a:ext cx="1560600" cy="187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图片 4100" descr="68b1OOOPIC57[1]"/>
            <p:cNvPicPr/>
            <p:nvPr/>
          </p:nvPicPr>
          <p:blipFill>
            <a:blip r:embed="rId10"/>
            <a:stretch/>
          </p:blipFill>
          <p:spPr>
            <a:xfrm>
              <a:off x="5911560" y="2219400"/>
              <a:ext cx="1560600" cy="187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3" name="TextBox 5"/>
          <p:cNvSpPr/>
          <p:nvPr/>
        </p:nvSpPr>
        <p:spPr>
          <a:xfrm>
            <a:off x="614520" y="10944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5121" descr="P-024-2"/>
          <p:cNvPicPr/>
          <p:nvPr/>
        </p:nvPicPr>
        <p:blipFill>
          <a:blip r:embed="rId1"/>
          <a:stretch/>
        </p:blipFill>
        <p:spPr>
          <a:xfrm>
            <a:off x="6299280" y="4221000"/>
            <a:ext cx="1598400" cy="213048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5122"/>
          <p:cNvGrpSpPr/>
          <p:nvPr/>
        </p:nvGrpSpPr>
        <p:grpSpPr>
          <a:xfrm>
            <a:off x="4213080" y="2781360"/>
            <a:ext cx="1871640" cy="581400"/>
            <a:chOff x="4213080" y="2781360"/>
            <a:chExt cx="1871640" cy="581400"/>
          </a:xfrm>
        </p:grpSpPr>
        <p:sp>
          <p:nvSpPr>
            <p:cNvPr id="1016" name="矩形 5123"/>
            <p:cNvSpPr/>
            <p:nvPr/>
          </p:nvSpPr>
          <p:spPr>
            <a:xfrm>
              <a:off x="4213080" y="2781360"/>
              <a:ext cx="15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3 + 2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矩形 5124"/>
            <p:cNvSpPr/>
            <p:nvPr/>
          </p:nvSpPr>
          <p:spPr>
            <a:xfrm>
              <a:off x="5508720" y="2781360"/>
              <a:ext cx="57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5125"/>
          <p:cNvGrpSpPr/>
          <p:nvPr/>
        </p:nvGrpSpPr>
        <p:grpSpPr>
          <a:xfrm>
            <a:off x="7451640" y="3933720"/>
            <a:ext cx="1365120" cy="660240"/>
            <a:chOff x="7451640" y="3933720"/>
            <a:chExt cx="1365120" cy="660240"/>
          </a:xfrm>
        </p:grpSpPr>
        <p:pic>
          <p:nvPicPr>
            <p:cNvPr id="1019" name="图片 5126" descr="007"/>
            <p:cNvPicPr/>
            <p:nvPr/>
          </p:nvPicPr>
          <p:blipFill>
            <a:blip r:embed="rId2"/>
            <a:stretch/>
          </p:blipFill>
          <p:spPr>
            <a:xfrm>
              <a:off x="7451640" y="3951360"/>
              <a:ext cx="1082160" cy="64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矩形 5127"/>
            <p:cNvSpPr/>
            <p:nvPr/>
          </p:nvSpPr>
          <p:spPr>
            <a:xfrm>
              <a:off x="7507080" y="3933720"/>
              <a:ext cx="13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组合 5128"/>
          <p:cNvGrpSpPr/>
          <p:nvPr/>
        </p:nvGrpSpPr>
        <p:grpSpPr>
          <a:xfrm>
            <a:off x="2529000" y="3565440"/>
            <a:ext cx="3251160" cy="2709720"/>
            <a:chOff x="2529000" y="3565440"/>
            <a:chExt cx="3251160" cy="2709720"/>
          </a:xfrm>
        </p:grpSpPr>
        <p:grpSp>
          <p:nvGrpSpPr>
            <p:cNvPr id="1022" name="组合 5129"/>
            <p:cNvGrpSpPr/>
            <p:nvPr/>
          </p:nvGrpSpPr>
          <p:grpSpPr>
            <a:xfrm>
              <a:off x="4211640" y="3565440"/>
              <a:ext cx="1568520" cy="1809720"/>
              <a:chOff x="4211640" y="3565440"/>
              <a:chExt cx="1568520" cy="1809720"/>
            </a:xfrm>
          </p:grpSpPr>
          <p:sp>
            <p:nvSpPr>
              <p:cNvPr id="1023" name="圆角矩形 5130"/>
              <p:cNvSpPr/>
              <p:nvPr/>
            </p:nvSpPr>
            <p:spPr>
              <a:xfrm>
                <a:off x="4211640" y="3565440"/>
                <a:ext cx="1568520" cy="1400040"/>
              </a:xfrm>
              <a:prstGeom prst="roundRect">
                <a:avLst>
                  <a:gd name="adj" fmla="val 12019"/>
                </a:avLst>
              </a:prstGeom>
              <a:solidFill>
                <a:srgbClr val="d9f3ff"/>
              </a:solidFill>
              <a:ln w="19080">
                <a:solidFill>
                  <a:srgbClr val="0472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组合 5131"/>
              <p:cNvGrpSpPr/>
              <p:nvPr/>
            </p:nvGrpSpPr>
            <p:grpSpPr>
              <a:xfrm>
                <a:off x="4476600" y="3738600"/>
                <a:ext cx="1224000" cy="1268280"/>
                <a:chOff x="4476600" y="3738600"/>
                <a:chExt cx="1224000" cy="1268280"/>
              </a:xfrm>
            </p:grpSpPr>
            <p:sp>
              <p:nvSpPr>
                <p:cNvPr id="1025" name="文本框 5132"/>
                <p:cNvSpPr/>
                <p:nvPr/>
              </p:nvSpPr>
              <p:spPr>
                <a:xfrm>
                  <a:off x="4476600" y="4486320"/>
                  <a:ext cx="1224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     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直接连接符 5133"/>
                <p:cNvSpPr/>
                <p:nvPr/>
              </p:nvSpPr>
              <p:spPr>
                <a:xfrm flipH="1">
                  <a:off x="4705200" y="4187880"/>
                  <a:ext cx="249120" cy="34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直接连接符 5134"/>
                <p:cNvSpPr/>
                <p:nvPr/>
              </p:nvSpPr>
              <p:spPr>
                <a:xfrm>
                  <a:off x="4954320" y="4187880"/>
                  <a:ext cx="28728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矩形 5135"/>
                <p:cNvSpPr/>
                <p:nvPr/>
              </p:nvSpPr>
              <p:spPr>
                <a:xfrm>
                  <a:off x="4738680" y="3738600"/>
                  <a:ext cx="436320" cy="43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9" name="椭圆 5136"/>
              <p:cNvSpPr/>
              <p:nvPr/>
            </p:nvSpPr>
            <p:spPr>
              <a:xfrm>
                <a:off x="4703760" y="5043240"/>
                <a:ext cx="360360" cy="177840"/>
              </a:xfrm>
              <a:prstGeom prst="ellipse">
                <a:avLst/>
              </a:prstGeom>
              <a:solidFill>
                <a:srgbClr val="d9f3ff"/>
              </a:solidFill>
              <a:ln w="19080">
                <a:solidFill>
                  <a:srgbClr val="0472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椭圆 5137"/>
              <p:cNvSpPr/>
              <p:nvPr/>
            </p:nvSpPr>
            <p:spPr>
              <a:xfrm>
                <a:off x="4599000" y="5288040"/>
                <a:ext cx="176040" cy="87120"/>
              </a:xfrm>
              <a:prstGeom prst="ellipse">
                <a:avLst/>
              </a:prstGeom>
              <a:solidFill>
                <a:srgbClr val="d9f3ff"/>
              </a:solidFill>
              <a:ln w="19080">
                <a:solidFill>
                  <a:srgbClr val="0472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1" name="图片 5138" descr="P-024-3"/>
            <p:cNvPicPr/>
            <p:nvPr/>
          </p:nvPicPr>
          <p:blipFill>
            <a:blip r:embed="rId3"/>
            <a:stretch/>
          </p:blipFill>
          <p:spPr>
            <a:xfrm>
              <a:off x="2529000" y="4452840"/>
              <a:ext cx="1473120" cy="18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2" name="文本框 5139"/>
          <p:cNvSpPr/>
          <p:nvPr/>
        </p:nvSpPr>
        <p:spPr>
          <a:xfrm>
            <a:off x="4643280" y="357336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3" name="图片 5140" descr="P-024-1"/>
          <p:cNvPicPr/>
          <p:nvPr/>
        </p:nvPicPr>
        <p:blipFill>
          <a:blip r:embed="rId4"/>
          <a:stretch/>
        </p:blipFill>
        <p:spPr>
          <a:xfrm>
            <a:off x="539640" y="4149720"/>
            <a:ext cx="1514520" cy="2008080"/>
          </a:xfrm>
          <a:prstGeom prst="rect">
            <a:avLst/>
          </a:prstGeom>
          <a:ln w="0">
            <a:noFill/>
          </a:ln>
        </p:spPr>
      </p:pic>
      <p:grpSp>
        <p:nvGrpSpPr>
          <p:cNvPr id="1034" name="组合 5141"/>
          <p:cNvGrpSpPr/>
          <p:nvPr/>
        </p:nvGrpSpPr>
        <p:grpSpPr>
          <a:xfrm>
            <a:off x="324000" y="3286080"/>
            <a:ext cx="2506680" cy="752400"/>
            <a:chOff x="324000" y="3286080"/>
            <a:chExt cx="2506680" cy="752400"/>
          </a:xfrm>
        </p:grpSpPr>
        <p:pic>
          <p:nvPicPr>
            <p:cNvPr id="1035" name="图片 5142" descr="007"/>
            <p:cNvPicPr/>
            <p:nvPr/>
          </p:nvPicPr>
          <p:blipFill>
            <a:blip r:embed="rId5"/>
            <a:stretch/>
          </p:blipFill>
          <p:spPr>
            <a:xfrm>
              <a:off x="324000" y="3286080"/>
              <a:ext cx="196200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矩形 5143"/>
            <p:cNvSpPr/>
            <p:nvPr/>
          </p:nvSpPr>
          <p:spPr>
            <a:xfrm>
              <a:off x="338400" y="331920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 2  3  4  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矩形 5144"/>
            <p:cNvSpPr/>
            <p:nvPr/>
          </p:nvSpPr>
          <p:spPr>
            <a:xfrm>
              <a:off x="468360" y="331920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、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5145"/>
          <p:cNvGrpSpPr/>
          <p:nvPr/>
        </p:nvGrpSpPr>
        <p:grpSpPr>
          <a:xfrm>
            <a:off x="1908000" y="620640"/>
            <a:ext cx="5175000" cy="2448000"/>
            <a:chOff x="1908000" y="620640"/>
            <a:chExt cx="5175000" cy="2448000"/>
          </a:xfrm>
        </p:grpSpPr>
        <p:pic>
          <p:nvPicPr>
            <p:cNvPr id="1039" name="图片 5146" descr="小鸡群"/>
            <p:cNvPicPr/>
            <p:nvPr/>
          </p:nvPicPr>
          <p:blipFill>
            <a:blip r:embed="rId6"/>
            <a:stretch/>
          </p:blipFill>
          <p:spPr>
            <a:xfrm>
              <a:off x="1908000" y="620640"/>
              <a:ext cx="299448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图片 5147" descr="68b1OOOPIC57[1]"/>
            <p:cNvPicPr/>
            <p:nvPr/>
          </p:nvPicPr>
          <p:blipFill>
            <a:blip r:embed="rId7"/>
            <a:stretch/>
          </p:blipFill>
          <p:spPr>
            <a:xfrm>
              <a:off x="6024960" y="770400"/>
              <a:ext cx="1058040" cy="12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1" name="图片 5148" descr="68b1OOOPIC57[1]"/>
            <p:cNvPicPr/>
            <p:nvPr/>
          </p:nvPicPr>
          <p:blipFill>
            <a:blip r:embed="rId8"/>
            <a:stretch/>
          </p:blipFill>
          <p:spPr>
            <a:xfrm>
              <a:off x="5501160" y="1069560"/>
              <a:ext cx="105804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2" name="组合 6145"/>
          <p:cNvGrpSpPr/>
          <p:nvPr/>
        </p:nvGrpSpPr>
        <p:grpSpPr>
          <a:xfrm>
            <a:off x="1908000" y="3933720"/>
            <a:ext cx="1698480" cy="648360"/>
            <a:chOff x="1908000" y="3933720"/>
            <a:chExt cx="1698480" cy="648360"/>
          </a:xfrm>
        </p:grpSpPr>
        <p:sp>
          <p:nvSpPr>
            <p:cNvPr id="1043" name="矩形 6146"/>
            <p:cNvSpPr/>
            <p:nvPr/>
          </p:nvSpPr>
          <p:spPr>
            <a:xfrm>
              <a:off x="3174840" y="409104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文本框 6147"/>
            <p:cNvSpPr/>
            <p:nvPr/>
          </p:nvSpPr>
          <p:spPr>
            <a:xfrm>
              <a:off x="1908000" y="393372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+ 2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文本框 6148"/>
          <p:cNvSpPr/>
          <p:nvPr/>
        </p:nvSpPr>
        <p:spPr>
          <a:xfrm>
            <a:off x="3060720" y="393372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6149"/>
          <p:cNvGrpSpPr/>
          <p:nvPr/>
        </p:nvGrpSpPr>
        <p:grpSpPr>
          <a:xfrm>
            <a:off x="6156360" y="4076640"/>
            <a:ext cx="1698480" cy="648360"/>
            <a:chOff x="6156360" y="4076640"/>
            <a:chExt cx="1698480" cy="648360"/>
          </a:xfrm>
        </p:grpSpPr>
        <p:sp>
          <p:nvSpPr>
            <p:cNvPr id="1047" name="矩形 6150"/>
            <p:cNvSpPr/>
            <p:nvPr/>
          </p:nvSpPr>
          <p:spPr>
            <a:xfrm>
              <a:off x="7423200" y="42339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文本框 6151"/>
            <p:cNvSpPr/>
            <p:nvPr/>
          </p:nvSpPr>
          <p:spPr>
            <a:xfrm>
              <a:off x="6156360" y="40766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 + 3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文本框 6152"/>
          <p:cNvSpPr/>
          <p:nvPr/>
        </p:nvSpPr>
        <p:spPr>
          <a:xfrm>
            <a:off x="7308720" y="407664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6153" descr="P-024-6"/>
          <p:cNvPicPr/>
          <p:nvPr/>
        </p:nvPicPr>
        <p:blipFill>
          <a:blip r:embed="rId1"/>
          <a:stretch/>
        </p:blipFill>
        <p:spPr>
          <a:xfrm>
            <a:off x="612720" y="2205000"/>
            <a:ext cx="3867120" cy="155592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6154" descr="P-026-7"/>
          <p:cNvPicPr/>
          <p:nvPr/>
        </p:nvPicPr>
        <p:blipFill>
          <a:blip r:embed="rId2"/>
          <a:stretch/>
        </p:blipFill>
        <p:spPr>
          <a:xfrm>
            <a:off x="5427720" y="2147760"/>
            <a:ext cx="3321000" cy="1641600"/>
          </a:xfrm>
          <a:prstGeom prst="rect">
            <a:avLst/>
          </a:prstGeom>
          <a:ln w="0">
            <a:noFill/>
          </a:ln>
        </p:spPr>
      </p:pic>
      <p:sp>
        <p:nvSpPr>
          <p:cNvPr id="1052" name="文本框 6157"/>
          <p:cNvSpPr/>
          <p:nvPr/>
        </p:nvSpPr>
        <p:spPr>
          <a:xfrm>
            <a:off x="684360" y="1484280"/>
            <a:ext cx="71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3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54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5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56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7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9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3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4" name="Rectangle 64"/>
          <p:cNvSpPr/>
          <p:nvPr/>
        </p:nvSpPr>
        <p:spPr>
          <a:xfrm>
            <a:off x="723960" y="146160"/>
            <a:ext cx="1973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宋体"/>
                <a:ea typeface="宋体"/>
              </a:rPr>
              <a:t>做一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组合 7170"/>
          <p:cNvGrpSpPr/>
          <p:nvPr/>
        </p:nvGrpSpPr>
        <p:grpSpPr>
          <a:xfrm>
            <a:off x="1620720" y="2205000"/>
            <a:ext cx="138240" cy="646200"/>
            <a:chOff x="1620720" y="2205000"/>
            <a:chExt cx="138240" cy="646200"/>
          </a:xfrm>
        </p:grpSpPr>
        <p:pic>
          <p:nvPicPr>
            <p:cNvPr id="1066" name="内容占位符 7171" descr="橘子"/>
            <p:cNvPicPr/>
            <p:nvPr/>
          </p:nvPicPr>
          <p:blipFill>
            <a:blip r:embed="rId1"/>
            <a:stretch/>
          </p:blipFill>
          <p:spPr>
            <a:xfrm>
              <a:off x="1620720" y="2205000"/>
              <a:ext cx="313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内容占位符 7172" descr="橘子"/>
            <p:cNvPicPr/>
            <p:nvPr/>
          </p:nvPicPr>
          <p:blipFill>
            <a:blip r:embed="rId2"/>
            <a:stretch/>
          </p:blipFill>
          <p:spPr>
            <a:xfrm>
              <a:off x="1668600" y="2205000"/>
              <a:ext cx="313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8" name="图片 7173" descr="橘子"/>
            <p:cNvPicPr/>
            <p:nvPr/>
          </p:nvPicPr>
          <p:blipFill>
            <a:blip r:embed="rId3"/>
            <a:stretch/>
          </p:blipFill>
          <p:spPr>
            <a:xfrm>
              <a:off x="1698120" y="2205000"/>
              <a:ext cx="31320" cy="6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9" name="图片 7174" descr="橘子"/>
            <p:cNvPicPr/>
            <p:nvPr/>
          </p:nvPicPr>
          <p:blipFill>
            <a:blip r:embed="rId4"/>
            <a:stretch/>
          </p:blipFill>
          <p:spPr>
            <a:xfrm>
              <a:off x="1727640" y="2205000"/>
              <a:ext cx="31320" cy="64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组合 7175"/>
          <p:cNvGrpSpPr/>
          <p:nvPr/>
        </p:nvGrpSpPr>
        <p:grpSpPr>
          <a:xfrm>
            <a:off x="5508720" y="2205000"/>
            <a:ext cx="2771640" cy="642960"/>
            <a:chOff x="5508720" y="2205000"/>
            <a:chExt cx="2771640" cy="642960"/>
          </a:xfrm>
        </p:grpSpPr>
        <p:pic>
          <p:nvPicPr>
            <p:cNvPr id="1071" name="图片 7176" descr="橘子"/>
            <p:cNvPicPr/>
            <p:nvPr/>
          </p:nvPicPr>
          <p:blipFill>
            <a:blip r:embed="rId5"/>
            <a:stretch/>
          </p:blipFill>
          <p:spPr>
            <a:xfrm>
              <a:off x="5508720" y="2205000"/>
              <a:ext cx="6109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图片 7177" descr="橘子"/>
            <p:cNvPicPr/>
            <p:nvPr/>
          </p:nvPicPr>
          <p:blipFill>
            <a:blip r:embed="rId6"/>
            <a:stretch/>
          </p:blipFill>
          <p:spPr>
            <a:xfrm>
              <a:off x="6084720" y="2205000"/>
              <a:ext cx="6109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图片 7178" descr="橘子"/>
            <p:cNvPicPr/>
            <p:nvPr/>
          </p:nvPicPr>
          <p:blipFill>
            <a:blip r:embed="rId7"/>
            <a:stretch/>
          </p:blipFill>
          <p:spPr>
            <a:xfrm>
              <a:off x="6661440" y="2205000"/>
              <a:ext cx="610920" cy="64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图片 7179" descr="橘子"/>
            <p:cNvPicPr/>
            <p:nvPr/>
          </p:nvPicPr>
          <p:blipFill>
            <a:blip r:embed="rId8"/>
            <a:stretch/>
          </p:blipFill>
          <p:spPr>
            <a:xfrm>
              <a:off x="7669440" y="2205000"/>
              <a:ext cx="610920" cy="64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5" name="矩形 7180"/>
          <p:cNvSpPr/>
          <p:nvPr/>
        </p:nvSpPr>
        <p:spPr>
          <a:xfrm>
            <a:off x="1662120" y="365904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7181"/>
          <p:cNvSpPr/>
          <p:nvPr/>
        </p:nvSpPr>
        <p:spPr>
          <a:xfrm>
            <a:off x="971640" y="3502080"/>
            <a:ext cx="1550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+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7182"/>
          <p:cNvSpPr/>
          <p:nvPr/>
        </p:nvSpPr>
        <p:spPr>
          <a:xfrm>
            <a:off x="1547640" y="350208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183"/>
          <p:cNvSpPr/>
          <p:nvPr/>
        </p:nvSpPr>
        <p:spPr>
          <a:xfrm>
            <a:off x="2475000" y="365904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7184"/>
          <p:cNvSpPr/>
          <p:nvPr/>
        </p:nvSpPr>
        <p:spPr>
          <a:xfrm>
            <a:off x="2360520" y="350208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组合 7185"/>
          <p:cNvGrpSpPr/>
          <p:nvPr/>
        </p:nvGrpSpPr>
        <p:grpSpPr>
          <a:xfrm>
            <a:off x="5940360" y="3573360"/>
            <a:ext cx="1698480" cy="648360"/>
            <a:chOff x="5940360" y="3573360"/>
            <a:chExt cx="1698480" cy="648360"/>
          </a:xfrm>
        </p:grpSpPr>
        <p:sp>
          <p:nvSpPr>
            <p:cNvPr id="1081" name="矩形 7186"/>
            <p:cNvSpPr/>
            <p:nvPr/>
          </p:nvSpPr>
          <p:spPr>
            <a:xfrm>
              <a:off x="7207200" y="373068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文本框 7187"/>
            <p:cNvSpPr/>
            <p:nvPr/>
          </p:nvSpPr>
          <p:spPr>
            <a:xfrm>
              <a:off x="5940360" y="357336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 +    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3" name="文本框 7188"/>
          <p:cNvSpPr/>
          <p:nvPr/>
        </p:nvSpPr>
        <p:spPr>
          <a:xfrm>
            <a:off x="7093080" y="357336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7190"/>
          <p:cNvSpPr/>
          <p:nvPr/>
        </p:nvSpPr>
        <p:spPr>
          <a:xfrm>
            <a:off x="684360" y="1268280"/>
            <a:ext cx="71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矩形 7191"/>
          <p:cNvSpPr/>
          <p:nvPr/>
        </p:nvSpPr>
        <p:spPr>
          <a:xfrm>
            <a:off x="6516720" y="3716280"/>
            <a:ext cx="431640" cy="432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7192"/>
          <p:cNvSpPr/>
          <p:nvPr/>
        </p:nvSpPr>
        <p:spPr>
          <a:xfrm>
            <a:off x="6443640" y="357336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5:34Z</dcterms:modified>
  <cp:revision>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